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DBBE-764D-4466-9519-421E76328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link check here for a reliable site.  Have your students examine and evaluate the URLs of the sites that linked to the site in ques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tical errors are important clues that a site ought to be avoided as a source.  Be on the lookout for information that just doesn’t “feel right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is not a contest. It doesn’t matter how many sources you collect. What does matter is their quality and their relevance! Your teacher will be more impressed with five high-quality, highly relevant sites, than thirty irrelevant o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give examples of when it would be more or less important to have your site be current?  Is it important that an author keep a site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very suspicious of information that appears out of nowhere.  Unless this is a completely original source some documentation ought to be present for you to take the page ser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various reasons people choose to publish on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Web publishing different from traditional print--book, magazine, newspaper--publishing?  Who filtered (or selected) those resources for qual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iscover an author has a Ph.D.  Do you need to investigate any further? What if her degree is in physics and the website she wrote is on Shakespe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rything on Geocities bad?  Would your teacher question you citing a source that resided on a free server?  Who might have a site with a ~ at a univers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es often appear on the top or bottom of a page, or in menu bars and frames.  These sections often contain authorship clu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F0C8-0B05-4FB9-A799-52192829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88A-1FF6-4233-9EA9-6012553F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04E-0889-4D77-895C-46E026A3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F22-161C-4176-B66F-CA9541E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EE5-0B7A-429E-9314-73F3A7E3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5B03-9A05-4FAB-B594-DE7FA1A5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598-B1C3-4156-9C9C-4B03CA0F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16D9-89C7-4470-92EE-449FCF1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17D5-A296-401F-BEB9-F82520B7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DF43-9801-4941-8F1F-A1E3247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8C57-9B5D-4D5D-ABCF-2AE2984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3BB-20DA-42D2-AA38-49375DD6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D2D9-67B8-4190-89AD-E15B14C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A34B-59DC-47C4-8F7D-DDDB11A4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BC5-48FC-4890-A01A-E4122219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0CD2-9C67-414D-BBA0-94D897AD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639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37120" y="190512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907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639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37120" y="4014360"/>
            <a:ext cx="235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3C91-11E9-498E-8C25-A2167AD0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3B5-08E4-4D13-97CC-B555587F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A19-F3A8-4747-AD94-901C3F7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37F-AB91-47B9-98AF-0C2E73A1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69339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3D1-BE6E-43FF-9F79-DD0234E4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55E-E618-49E4-BF44-1F63A2EC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39400" y="401436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19D-9C16-4276-83D9-826736D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5760"/>
            <a:ext cx="6933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400" y="1905120"/>
            <a:ext cx="35697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014360"/>
            <a:ext cx="7315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556-1A4F-4116-AD12-5C6F777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 rot="16200000">
            <a:off x="4304520" y="6513480"/>
            <a:ext cx="610200" cy="68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20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2031"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52280"/>
            <a:ext cx="9144000" cy="6629400"/>
            <a:chOff x="0" y="152280"/>
            <a:chExt cx="9144000" cy="6629400"/>
          </a:xfrm>
        </p:grpSpPr>
        <p:sp>
          <p:nvSpPr>
            <p:cNvPr id="2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228600" y="76320"/>
            <a:ext cx="8763120" cy="1523880"/>
            <a:chOff x="228600" y="76320"/>
            <a:chExt cx="8763120" cy="1523880"/>
          </a:xfrm>
        </p:grpSpPr>
        <p:sp>
          <p:nvSpPr>
            <p:cNvPr id="5" name=""/>
            <p:cNvSpPr/>
            <p:nvPr/>
          </p:nvSpPr>
          <p:spPr>
            <a:xfrm>
              <a:off x="228600" y="763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4724280" y="763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522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90720" y="1905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99ccff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62320" y="64008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49E-9ABF-4C3D-9544-718D6A8E324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76320"/>
            <a:ext cx="9144000" cy="6705360"/>
            <a:chOff x="0" y="76320"/>
            <a:chExt cx="9144000" cy="6705360"/>
          </a:xfrm>
        </p:grpSpPr>
        <p:sp>
          <p:nvSpPr>
            <p:cNvPr id="50" name=""/>
            <p:cNvSpPr/>
            <p:nvPr/>
          </p:nvSpPr>
          <p:spPr>
            <a:xfrm flipH="1">
              <a:off x="5029200" y="152280"/>
              <a:ext cx="4114800" cy="6629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6320"/>
              <a:ext cx="4114800" cy="670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305" y="540"/>
                    <a:pt x="3009" y="5080"/>
                    <a:pt x="3009" y="10800"/>
                  </a:cubicBezTo>
                  <a:cubicBezTo>
                    <a:pt x="3009" y="16520"/>
                    <a:pt x="12305" y="2106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8600" y="2590920"/>
            <a:ext cx="8763120" cy="1523880"/>
            <a:chOff x="228600" y="2590920"/>
            <a:chExt cx="8763120" cy="1523880"/>
          </a:xfrm>
        </p:grpSpPr>
        <p:sp>
          <p:nvSpPr>
            <p:cNvPr id="53" name=""/>
            <p:cNvSpPr/>
            <p:nvPr/>
          </p:nvSpPr>
          <p:spPr>
            <a:xfrm>
              <a:off x="228600" y="2590920"/>
              <a:ext cx="396252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724280" y="2590920"/>
              <a:ext cx="4267440" cy="1523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497" y="250"/>
                    <a:pt x="1393" y="5080"/>
                    <a:pt x="1393" y="10800"/>
                  </a:cubicBezTo>
                  <a:cubicBezTo>
                    <a:pt x="1393" y="16520"/>
                    <a:pt x="11497" y="2135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6ff3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2666880"/>
              <a:ext cx="7925040" cy="13716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2514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3EE0-E63A-4230-B8CE-7025D4224D9C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ccff"/>
              </a:buClr>
              <a:buFont typeface="Times New Roman"/>
              <a:buChar char="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ogle.com/" TargetMode="External"/><Relationship Id="rId2" Type="http://schemas.openxmlformats.org/officeDocument/2006/relationships/hyperlink" Target="http://altavista.com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ey there! </a:t>
            </a:r>
            <a:br>
              <a:rPr sz="6000"/>
            </a:br>
            <a:r>
              <a:rPr b="0" lang="en-US" sz="6000" spc="-1" strike="noStrike">
                <a:solidFill>
                  <a:srgbClr val="6600cc"/>
                </a:solidFill>
                <a:latin typeface="Arial"/>
              </a:rPr>
              <a:t>Have you evaluated?</a:t>
            </a:r>
            <a:endParaRPr b="0" lang="en-US" sz="6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400" y="48769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that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od enough to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t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743200" y="2209680"/>
            <a:ext cx="3181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More credibility clues</a:t>
            </a:r>
            <a:br>
              <a:rPr sz="4400"/>
            </a:b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(What do others think?)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ink check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 u="sng">
                <a:solidFill>
                  <a:srgbClr val="669900"/>
                </a:solidFill>
                <a:uFillTx/>
                <a:latin typeface="Arial"/>
                <a:hlinkClick r:id="rId1"/>
              </a:rPr>
              <a:t>Goo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669900"/>
                </a:solidFill>
                <a:uFillTx/>
                <a:latin typeface="Arial"/>
                <a:hlinkClick r:id="rId2"/>
              </a:rPr>
              <a:t>AltaVi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siteaddres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ults will show which other sites have chosen to link to this page. If several respectable institutions have linked to a site, that provides a clue about the site’s credibility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site appear in major subject directories like Librarian’s Index to the Internet (lii.org)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runcate the URL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characters in the address line up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xt slash mark to see if a main page offers more information about who is responsible for publishing the page you are interested i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3822840"/>
            <a:ext cx="723888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from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/chaucer/smith.ht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/chauce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/middleag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/histo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tatecollege.ed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" dur="1" fill="hold"/>
                                  <p:tgtEl>
                                    <p:spTgt spid="12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till more credibility clue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n author’s name but no furthe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credentials,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name in quotation marks in a search engine or online databas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Web, include words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u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.V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urriculum vitae</a:t>
            </a: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cademic resume) to narrow you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search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ight also include the name of a college or association you can connect with the perso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name in biographical sources on- and offline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your teacher-librarian for help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facts, statistics, or other informatio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through other sources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your knowledge, does the information seem accurate? Is the information inconsistent with information you learned from other source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formation second hand? Has it been altere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re appear to be errors on the p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pelling, grammar, facts)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ource present a particular view or bias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affiliated with an organization that has a particular political or social agenda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age selling a produc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find other material to offer balance so that you can see the bigger pictur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e information found 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id plac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onsored res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 search engin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is seldom neutral. Sometimes a bias is useful for persuasive essays or debate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ognizing bia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important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21333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information directly suppo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ypothesis/thesis or help to answer my question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eliminate or ignore it because it simply doesn’t help me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this information creat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as it last revised? 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se dates meaningful in ter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your information needs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author of the page stopped maintaining it?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e suspicious of undated material.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d the author bother to document his or her sources?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re those references reliable, popular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larly, reputabl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ose sources real? Have you or your librarian heard of or been able to verify them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material reproduced (accurately) from another publication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kind of links did the author choos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6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 hyperlinks reliable and valuable?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/ PURPOSE</a:t>
            </a:r>
            <a:endParaRPr b="0" lang="en-US" sz="2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source address my hypothesis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is/question in a comprehensive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way?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a scholarly or popular treatment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material I can read and understand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 too simple? Is it too challenging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intended audienc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as this page created? To infor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plain? To persuade? To sell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What can you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earn from a URL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the end, or suffix of a domain name to help you judge the validity of the information and the potential bias of a website. 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rategy is only a guideline. People can easily purc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s that do not reflect their actual purpose.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292572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733920" y="457200"/>
            <a:ext cx="4876560" cy="2590920"/>
          </a:xfrm>
          <a:prstGeom prst="wedgeRoundRectCallout">
            <a:avLst>
              <a:gd name="adj1" fmla="val -32712"/>
              <a:gd name="adj2" fmla="val 59435"/>
              <a:gd name="adj3" fmla="val 16667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mmm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s one looks good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I tell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sure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URLs as clues to content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om=commercial sites (vary in their credibility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gov=U.S. government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org=organization, often non-profi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have strong bias and agenda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du=school or university site (is it K–12?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a student? By a scholar?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store=retail busines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int=international institution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c=educational institution (like .edu)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il=U.S. military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net=networked service provider, Intern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ve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useum=museum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name=individual Internet user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biz=a business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pro=professional’s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=personal site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emember, the </a:t>
            </a:r>
            <a:r>
              <a:rPr b="0" i="1" lang="en-US" sz="4400" spc="-1" strike="noStrike">
                <a:solidFill>
                  <a:srgbClr val="6600cc"/>
                </a:solidFill>
                <a:latin typeface="Arial"/>
              </a:rPr>
              <a:t>free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 Web is not your only choice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52120" y="22093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use print sourc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arch subscription databases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heck with your teacher-librarian for advice?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o, why should we care about all of this?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2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bigger questions in life!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will be using information to make important decisions!</a:t>
            </a:r>
            <a:endParaRPr b="0" lang="en-US" sz="36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ar should I bu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doctor should I choose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my child have this surgery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I take this medication?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be able to ensur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you choose is reliable, credible, current, balanced, relevant, and accurate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Just as you evaluate 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your sources . . .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evaluate your work based on the quality of the sources you select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carefully. Don’t settl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od enou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lity always counts!</a:t>
            </a:r>
            <a:endParaRPr b="0" lang="en-US" sz="4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It’s okay to be confused</a:t>
            </a: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8960" y="17521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billions of websites out ther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m are not worthy of your time and don’t belong in your bibliographies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901"/>
              </a:spcAft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’s very hard to tell treasure from trash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Web developers don’t want you to understand the difference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89512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one can publish anyth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eb!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 is your job, as a researcher, to look for quality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029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5410080" cy="3200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1676520"/>
            <a:ext cx="3200400" cy="1904760"/>
          </a:xfrm>
          <a:prstGeom prst="wedgeEllipseCallout">
            <a:avLst>
              <a:gd name="adj1" fmla="val 49601"/>
              <a:gd name="adj2" fmla="val 8533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so ho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know if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te is goo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0"/>
            <a:ext cx="5486400" cy="2743200"/>
          </a:xfrm>
          <a:prstGeom prst="wedgeEllipseCallout">
            <a:avLst>
              <a:gd name="adj1" fmla="val 12268"/>
              <a:gd name="adj2" fmla="val 85763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h, and how can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 su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r tea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good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ugh to cite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Think of CARRDSS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0968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7534"/>
                </a:solidFill>
                <a:latin typeface="Wide Lati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URAC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1f1d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ABILITY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Wide Lati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NC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84b81"/>
                </a:solidFill>
                <a:latin typeface="Wide Lati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c54ad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CES BEHIND THE TEX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18b0"/>
                </a:solidFill>
                <a:latin typeface="Wide Lati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E AND PURPOS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c18b0"/>
                </a:solidFill>
                <a:latin typeface="Wide Lati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IBILITY / AUTHORITY</a:t>
            </a:r>
            <a:endParaRPr b="0" lang="en-US" sz="40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the author?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his or her credentials? Education? Experience? Affiliation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the author’s experience really qualify him or her as an expert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he or she offer first-hand credibility? (For instance, a Vietnam veteran or a witness to Woodstock?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ctually published this page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personal page or is it an endorsed part of a site belonging to a major institution? (Clues pointing to a personal page: ~ tilde, %, users, members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age hosted by a free server like AOL Members, Tripod, Geocities?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659320" cy="2710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8080" y="914400"/>
            <a:ext cx="5181840" cy="3124080"/>
          </a:xfrm>
          <a:prstGeom prst="wedgeEllipseCallout">
            <a:avLst>
              <a:gd name="adj1" fmla="val 46995"/>
              <a:gd name="adj2" fmla="val 83435"/>
            </a:avLst>
          </a:prstGeom>
          <a:solidFill>
            <a:srgbClr val="66ff3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ut what if I can’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nd any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uthor information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Look for credibility clues!</a:t>
            </a:r>
            <a:endParaRPr b="0" lang="en-US" sz="44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s and phrases to look for: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out us, Who Am I, FAQs, Fo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, Company Information, Profile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r Staff, Hom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 the author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no information other th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-mail link, write a polite e-mai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for more information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9:03:09Z</dcterms:created>
  <dc:creator>Technology Services</dc:creator>
  <dc:description/>
  <dc:language>en-US</dc:language>
  <cp:lastModifiedBy>Technology Services</cp:lastModifiedBy>
  <dcterms:modified xsi:type="dcterms:W3CDTF">2008-01-03T19:05:37Z</dcterms:modified>
  <cp:revision>1</cp:revision>
  <dc:subject/>
  <dc:title>Hey there!  Have you evaluated?</dc:title>
</cp:coreProperties>
</file>